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86BF-F77B-4ECF-9D8B-9875C515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287-7910-4A61-8A0E-EA67A52D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AAF-AE23-4001-B140-4E8FB612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CD8-60AB-4188-A35A-A5E4658F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9ED3-BC6C-496B-A994-C8D8B15B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C90D-D9F0-4990-BAA8-19A1D347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F0C7-6EC4-482E-B211-7AACEC32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D4FF-33F0-48AD-B788-D1BF7078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EA7A-E6F1-4680-97E3-39017536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FE06-FCD8-4B59-8631-764A2F11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7A52-2C8A-44F4-96FF-E2B89EE6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971-0E71-4ABA-BDD8-E8881569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5DCF-16E9-4D5A-B8F6-F34D4EFA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4499-BFB2-4C53-8143-9E8BDD96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9A41-D6BA-4792-A94F-CBFCFB06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B552-E4CB-4D73-9C36-B33AFB78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9229-01B3-42BC-8254-4D996981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D356C-F70C-4056-88B1-14261408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06A7C-78B9-47F3-8A35-82C0DF5D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FF2AC-5624-488A-8A4C-58E76988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4CC75-DF70-4941-862F-70E9B49B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674F1-EAE7-47C5-A13F-8AC22DDF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AA49-1ACF-418A-95FD-EBA4BA75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38D12-3B8F-4D98-B67D-2A78745D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03D7C-9413-4E9E-96A6-ECB00CB1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B3DC0-BFBE-464B-AEE1-4FA2A5D6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92F57-4BEA-4B3F-93A7-8E1B4D53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4CA82-E047-4C78-9D45-6FC7337A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0F60B-CF3B-4913-9760-67AA3D19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F3F52-75AD-4E6C-8935-176D9278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0E674-5477-4BDC-B714-285E56D8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2939D-15DE-4829-AD64-650A04E9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AF417-A505-4AE2-B34B-B902F243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A9E-A0D6-48CE-A777-455E0625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C7D7A-93A4-41E5-BA2B-425CA715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4C13B-B17E-4E07-88AC-6D673EC4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81DDA-E22B-4501-AC26-7F655852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E8FA8-1898-40A2-A321-48DCAD51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64BBC-21F5-4D21-8034-5DC602C7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27BC2-C361-404B-B820-E5E8C842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333D9-C55C-47D7-996F-50FB4D3F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18BB4-1F46-4F55-B826-87E2F627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BDB78-E120-42A8-BB77-331A9C71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6AC-00CE-4B35-963B-0A2191DE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204-ED93-4475-B2F7-58FFC706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135-053A-4DAC-A633-B573F716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EBAD-BDF8-4282-A38E-C71961A0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A8FC-6247-4418-BA46-F86CAA1D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3C8C-E9A8-444D-9624-56DA86227A7B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CE68-3C64-4C1A-978A-F07500EB8BBE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62DD-CF75-458F-854E-6773AAF2ECCD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4FF4-B8DB-46CB-BFF4-4351CA59E414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4617b"/>
                </a:solidFill>
                <a:latin typeface="Calibri"/>
              </a:rPr>
              <a:t>Comenius Regio </a:t>
            </a:r>
            <a:br>
              <a:rPr sz="5400"/>
            </a:br>
            <a:r>
              <a:rPr b="0" lang="en-GB" sz="5400" spc="-1" strike="noStrike">
                <a:solidFill>
                  <a:srgbClr val="04617b"/>
                </a:solidFill>
                <a:latin typeface="Calibri"/>
              </a:rPr>
              <a:t>My Role and Current Practice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Title 1"/>
          <p:cNvSpPr/>
          <p:nvPr/>
        </p:nvSpPr>
        <p:spPr>
          <a:xfrm>
            <a:off x="611280" y="4373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Arial"/>
              </a:rPr>
              <a:t>Gail Stevens</a:t>
            </a:r>
            <a:br>
              <a:rPr sz="3200"/>
            </a:b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Arial"/>
              </a:rPr>
              <a:t>Head of Maths</a:t>
            </a:r>
            <a:br>
              <a:rPr sz="3200"/>
            </a:b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Arial"/>
              </a:rPr>
              <a:t>Deer Park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tle 9"/>
          <p:cNvSpPr/>
          <p:nvPr/>
        </p:nvSpPr>
        <p:spPr>
          <a:xfrm>
            <a:off x="66348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Arial"/>
                <a:ea typeface="Arial"/>
              </a:rPr>
              <a:t>So what facto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611280" y="1844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ntoring and contact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611280" y="26114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ekly top up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611280" y="34034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ment for learning – review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611280" y="41958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GP tu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4617b"/>
                </a:solidFill>
                <a:latin typeface="Calibri"/>
              </a:rPr>
              <a:t>Deer Park School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Title 1"/>
          <p:cNvSpPr/>
          <p:nvPr/>
        </p:nvSpPr>
        <p:spPr>
          <a:xfrm>
            <a:off x="395280" y="3213000"/>
            <a:ext cx="82296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Rural sett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1100 pupils on rol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11-16 school with very close links to Cirencester Colleg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Main specialism - Technolog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A good school with outstanding features (OFSTED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58% 5A*-C including Maths and Englis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4617b"/>
                </a:solidFill>
                <a:latin typeface="Calibri"/>
              </a:rPr>
              <a:t>Maths Faculty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395280" y="3139920"/>
            <a:ext cx="82296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9 teach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Very new team with recent changes to leadershi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2008/9 Focus: Satisfactory to Goo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2009/10 Focus: Establishing Goo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Pupils follow range of pathways to increase personalis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66% A*-C GCSE Math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4617b"/>
                </a:solidFill>
                <a:latin typeface="Calibri"/>
              </a:rPr>
              <a:t>Current Initiativ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395280" y="4076640"/>
            <a:ext cx="82296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Building Learning Pow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Resilien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Resourcefulnes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Reciprocit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Reflectivenes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Assessing Pupil Progres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One to one tuition (Key Stage 3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5team extraction grou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Turning Head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400" spc="-1" strike="noStrike">
                <a:solidFill>
                  <a:srgbClr val="04617b"/>
                </a:solidFill>
                <a:latin typeface="Arial"/>
                <a:ea typeface="Arial"/>
              </a:rPr>
              <a:t>My Vision</a:t>
            </a:r>
            <a:endParaRPr b="0" lang="en-US" sz="6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Title 1"/>
          <p:cNvSpPr/>
          <p:nvPr/>
        </p:nvSpPr>
        <p:spPr>
          <a:xfrm>
            <a:off x="324000" y="2421000"/>
            <a:ext cx="4319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ff"/>
                </a:solidFill>
                <a:latin typeface="Arial"/>
                <a:ea typeface="Arial"/>
              </a:rPr>
              <a:t>Enjoyme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971640" y="4005360"/>
            <a:ext cx="4319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ff"/>
                </a:solidFill>
                <a:latin typeface="Arial"/>
                <a:ea typeface="Arial"/>
              </a:rPr>
              <a:t>Achieveme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4643280" y="3141720"/>
            <a:ext cx="4319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ff"/>
                </a:solidFill>
                <a:latin typeface="Arial"/>
                <a:ea typeface="Arial"/>
              </a:rPr>
              <a:t>Team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4427640" y="5013360"/>
            <a:ext cx="4319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ff"/>
                </a:solidFill>
                <a:latin typeface="Arial"/>
                <a:ea typeface="Arial"/>
              </a:rPr>
              <a:t>Consistenc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Arial"/>
                <a:ea typeface="Arial"/>
              </a:rPr>
              <a:t>Consisten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755640" y="1989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ory jo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755640" y="2637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ulty planner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755640" y="335772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tnightly leadership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755640" y="40514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ing w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785880" y="472428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pil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Arial"/>
                <a:ea typeface="Arial"/>
              </a:rPr>
              <a:t>Enjoy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755640" y="4292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r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84360" y="213372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easure h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684360" y="2852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ck on the m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684360" y="357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000"/>
                </a:solidFill>
                <a:uFillTx/>
                <a:latin typeface="Arial"/>
              </a:rPr>
              <a:t>Speed d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Arial"/>
                <a:ea typeface="Arial"/>
              </a:rPr>
              <a:t>Te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755640" y="1989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active scheme of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755640" y="263700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er observation schedule – within faculty and cross curr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Arial"/>
                <a:ea typeface="Arial"/>
              </a:rPr>
              <a:t>Achievement-track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271080" y="1699200"/>
            <a:ext cx="33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book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611280" y="31161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ular thermo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611280" y="2421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08:16:41Z</dcterms:created>
  <dc:creator>Gail Stevens</dc:creator>
  <dc:description/>
  <dc:language>en-US</dc:language>
  <cp:lastModifiedBy>stgstevens</cp:lastModifiedBy>
  <dcterms:modified xsi:type="dcterms:W3CDTF">2009-10-04T07:05:19Z</dcterms:modified>
  <cp:revision>41</cp:revision>
  <dc:subject/>
  <dc:title>Slide 1</dc:title>
</cp:coreProperties>
</file>